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FA756-5115-40C1-BFEC-512B4B5E3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A1653-D77E-4472-BD6D-3CBFB57E0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2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A3D44-E8B0-4DB2-ACE4-9CB8D2FA7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C36B4-62B9-40D6-912F-E34CD30FF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9D89D-3452-432C-92F1-8D5806C1C7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AB2C0-1940-4E38-B413-7B3F3B8DC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7F076-EC99-4F6A-A059-31653FCA8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3A47F-BC11-43EC-960E-501C6575B7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BF55E-8414-4F20-9D8D-5B18459F2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8D04C-7834-4D82-B9A4-C9FF01C09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848A7-9E22-4880-B31D-80F8242D5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CE8EB-95E0-43D5-98A8-098D70741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5A00-5134-4E89-BC4F-A11EE034E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7368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3AFC-38CA-4E47-8FF6-61864AA02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FE19-F461-43DB-ADE6-F6157B582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B35B-B615-4788-88AB-CF3ADCB80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F796-FC1B-4420-90B3-81FA36D14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E8CB-CB5B-4552-991D-E62C7C1CC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EF05-3F63-4F89-A85E-8B68BAC21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B0AA-0AC7-40D4-A7D0-88D8B46CA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25520" y="122040"/>
            <a:ext cx="8261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5940-0E4E-442E-A842-6C0800FE8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DF15-80E5-4603-86DF-0A8D46CA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7F4E-52B1-4079-8A2E-E8D155E0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A70F-BB79-42B8-AAD7-B38C65410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0" y="6454800"/>
            <a:ext cx="9144000" cy="403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-36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редавање бр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505200"/>
            <a:ext cx="289584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нформа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79720" y="6505200"/>
            <a:ext cx="213372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87423-8668-48EB-9675-4FCC0112F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3720" y="1268280"/>
            <a:ext cx="8218800" cy="0"/>
          </a:xfrm>
          <a:prstGeom prst="line">
            <a:avLst/>
          </a:prstGeom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9"/>
          <p:cNvSpPr/>
          <p:nvPr/>
        </p:nvSpPr>
        <p:spPr>
          <a:xfrm>
            <a:off x="423720" y="1312920"/>
            <a:ext cx="4186440" cy="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Date Placeholder 2"/>
          <p:cNvSpPr/>
          <p:nvPr/>
        </p:nvSpPr>
        <p:spPr>
          <a:xfrm>
            <a:off x="0" y="6424560"/>
            <a:ext cx="3865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ooter Placeholder 3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4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E3424-24F1-4DFC-802F-58D1E98A11B7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05380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Palatino Linotype"/>
              </a:rPr>
              <a:t>ОСНОВНИ ПРИНЦИПИ РАДА И ПРИМЕНА РАДИОГРАФИСАЊА У ОРАЛНОЈ ХИРУРГИЈИ </a:t>
            </a:r>
            <a:r>
              <a:rPr b="1" lang="en-US" sz="4000" spc="-1" strike="noStrike">
                <a:solidFill>
                  <a:srgbClr val="000066"/>
                </a:solidFill>
                <a:latin typeface="Palatino Linotype"/>
              </a:rPr>
              <a:t>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1120" y="4060800"/>
            <a:ext cx="864252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Назив предмета: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2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Час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: 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Palatino Linotype"/>
              </a:rPr>
              <a:t>3-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Тематске јединице: </a:t>
            </a: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Palatino Linotype"/>
              </a:rPr>
              <a:t>Принципи постављања дијагнозе Принципи асептичног рада Употреба </a:t>
            </a:r>
            <a:r>
              <a:rPr b="1" lang="en-U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Palatino Linotype"/>
              </a:rPr>
              <a:t>инструмената Основни принципи хируршког рада у устима Индикације </a:t>
            </a:r>
            <a:r>
              <a:rPr b="1" lang="en-U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Palatino Linotype"/>
              </a:rPr>
              <a:t>за примену радиографисања у оралној хирургији. Технике </a:t>
            </a:r>
            <a:r>
              <a:rPr b="1" lang="en-U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Palatino Linotype"/>
              </a:rPr>
              <a:t>радиографисањ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Palatino Linotype"/>
              </a:rPr>
              <a:t>Припремио</a:t>
            </a: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: </a:t>
            </a: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i="1" lang="sr-CS" sz="1400" spc="-1" strike="noStrike">
                <a:solidFill>
                  <a:srgbClr val="000000"/>
                </a:solidFill>
                <a:latin typeface="Palatino Linotype"/>
              </a:rPr>
              <a:t>Доц. др Марија Бубал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4"/>
          <p:cNvSpPr/>
          <p:nvPr/>
        </p:nvSpPr>
        <p:spPr>
          <a:xfrm>
            <a:off x="936720" y="3838680"/>
            <a:ext cx="4782960" cy="1440"/>
          </a:xfrm>
          <a:prstGeom prst="line">
            <a:avLst/>
          </a:prstGeom>
          <a:ln w="38160">
            <a:solidFill>
              <a:srgbClr val="fee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0" y="0"/>
            <a:ext cx="9144000" cy="19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7"/>
          <p:cNvSpPr/>
          <p:nvPr/>
        </p:nvSpPr>
        <p:spPr>
          <a:xfrm>
            <a:off x="0" y="1995480"/>
            <a:ext cx="91440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582480" y="6180120"/>
            <a:ext cx="7861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Copyright © 201</a:t>
            </a:r>
            <a:r>
              <a:rPr b="0" lang="sr-Latn-RS" sz="1000" spc="-1" strike="noStrike">
                <a:solidFill>
                  <a:srgbClr val="000000"/>
                </a:solidFill>
                <a:latin typeface="Palatino Linotype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 – Факултет медицинских наука Универзитета у Крагујевцу. Копирање и умножавање није дозвољено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memo grb copy"/>
          <p:cNvPicPr/>
          <p:nvPr/>
        </p:nvPicPr>
        <p:blipFill>
          <a:blip r:embed="rId1"/>
          <a:stretch/>
        </p:blipFill>
        <p:spPr>
          <a:xfrm>
            <a:off x="209520" y="166680"/>
            <a:ext cx="8737560" cy="160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66"/>
                </a:solidFill>
                <a:latin typeface="Palatino Linotype"/>
              </a:rPr>
              <a:t>Принципи асептичног рада 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393560"/>
            <a:ext cx="8229600" cy="47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Припрема инструмената за стерилизацију врши се на следећ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начин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Метални инструменти се после употребе одлажу у одговарајуће посуде и потапају у дезинфицијенс (1-3% асепсол, страминол), 60 мину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Затим се перу топлом текућом водом и четком ради уклањања органског материјала, бришу, проверава се њихова исправност и одлажу се у металне кутије до стерилиза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Хируршки мантили, компресе и друго рубље се машински перу и пеглају, а затим се одлажу у добоше са двоструким рупичастим зидовима у којима се врши стерилиза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Date Placeholder 3"/>
          <p:cNvSpPr/>
          <p:nvPr/>
        </p:nvSpPr>
        <p:spPr>
          <a:xfrm>
            <a:off x="0" y="6424560"/>
            <a:ext cx="3865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5F749-0116-4442-999C-966F2832C7E2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66"/>
                </a:solidFill>
                <a:latin typeface="Palatino Linotype"/>
              </a:rPr>
              <a:t>Принципи асептичног рада 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У оралнохируршкој пракси се најчешће примењују следеће методе стерилизациј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-стерилизација сувим загрејаним ваздухом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(на160ºС у трајању од 2 сата и на180ºС у трајању од 1 сат). Сувиим загрејаним ваздухом се стерилишу метални предмети и посу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стерилизација воденом паром под притиском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 (на 128ºС , притисак 253,3 кРа, 30 минута или на 134ºС, притисак 303,9 кРа, 20 минута). На овај начин се стерилише хируршко рубље, газа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Хируршке рукавице су фабрички стерилисане и упаковане у стерилном паковању и служе за једнократну употреб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ate Placeholder 3"/>
          <p:cNvSpPr/>
          <p:nvPr/>
        </p:nvSpPr>
        <p:spPr>
          <a:xfrm>
            <a:off x="0" y="6424560"/>
            <a:ext cx="3879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CE4BE-AA15-46DB-BCA2-27E544C03021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66"/>
                </a:solidFill>
                <a:latin typeface="Palatino Linotype"/>
              </a:rPr>
              <a:t>Принципи асептичног рада 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47680" y="1504800"/>
            <a:ext cx="868680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 Linotype"/>
              </a:rPr>
              <a:t>Припрема лекара,асистента и иснструментарке подразумева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-постављање капе на главу, маске преко носа и у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-хируршко прање ру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-облачење стерилног хируршког манти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-навлачење стерилних хируршких рукав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Прање руку треба да сведе на минимум број микроорганизама на кожи. Спроводи се истискивањем антисептичког раствора на длан једне руке, и систематичним прањем четком од врхова пристију једне и друге руке до лактова. Када се сапуница спере текућом водом од врхова прстију ка лактовима, руке се још једном оперу антисептичким раствором и осуше стерилном компресом. Цео поступак траје 5-6 мину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Date Placeholder 3"/>
          <p:cNvSpPr/>
          <p:nvPr/>
        </p:nvSpPr>
        <p:spPr>
          <a:xfrm>
            <a:off x="0" y="6424560"/>
            <a:ext cx="4059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FCFF2-8DB2-4E12-93A5-687A2F3C9C53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66"/>
                </a:solidFill>
                <a:latin typeface="Palatino Linotype"/>
              </a:rPr>
              <a:t>Принципи асептичног рада 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 Linotype"/>
              </a:rPr>
              <a:t>Припрема операцијског поља подразуме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-неколико дана пре интервенције уклонити каменац, меке наслаге, конкременте, извадити гангренозне зубе, санирати инфламацију гинги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-пре интервенције кожу у периоралном пределу пребрисати антиептичким растворима (повидон-јодид 10%, асепсол 1%), око уснене шупљине и носа ка перифериј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-усна шупљина се припрема брисањем зуба, гингиве, слузокоже уста и језика истим раствор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Date Placeholder 3"/>
          <p:cNvSpPr/>
          <p:nvPr/>
        </p:nvSpPr>
        <p:spPr>
          <a:xfrm>
            <a:off x="0" y="6424560"/>
            <a:ext cx="3809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E9763-D1F8-41AA-80A9-806FFD20F030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66"/>
                </a:solidFill>
                <a:latin typeface="Palatino Linotype"/>
              </a:rPr>
              <a:t>Употреба инструменат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Комплет инструмената за амбулантне оралнохируршке интервенције на хируршком сточићу требало би да садрж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Хируршки ножић (скалпел) са држач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Распатори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Маказиц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Екарте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Инструменти за рад у кости (сврдла, длета, остеотоми, клашта за кос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Кирете и екскавато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Инструменти за вађење зуба (клешта и полуг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Прибор за шиве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Остали инструмен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Date Placeholder 3"/>
          <p:cNvSpPr/>
          <p:nvPr/>
        </p:nvSpPr>
        <p:spPr>
          <a:xfrm>
            <a:off x="0" y="6424560"/>
            <a:ext cx="3906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60540-8866-44C5-8645-A46888A937DA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66"/>
                </a:solidFill>
                <a:latin typeface="Palatino Linotype"/>
              </a:rPr>
              <a:t>Основни принципи хируршког рада у устим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 Linotype"/>
              </a:rPr>
              <a:t>Планирање мукозног реж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-При раду на меким ткивима усне шупљине у циљу пластике мекоткивних структура, пре израде протетских надокнада у неким случајевима је потребно планирати мукозни режа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-Одизање мукозног режња изводи се тако што се иницијалним резом пресеца само слузокожа са евентуално танким слојем подслузокожног ткива. Одвајање слузокоже од субмукозног ткива најбоље је вршити тзв. Препарир маказица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Date Placeholder 3"/>
          <p:cNvSpPr/>
          <p:nvPr/>
        </p:nvSpPr>
        <p:spPr>
          <a:xfrm>
            <a:off x="0" y="6424560"/>
            <a:ext cx="3795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77731-A754-4D44-8D63-C75DB1434BC2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66"/>
                </a:solidFill>
                <a:latin typeface="Palatino Linotype"/>
              </a:rPr>
              <a:t>Основни принципи хируршког рада у устим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504800"/>
            <a:ext cx="842472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Palatino Linotype"/>
              </a:rPr>
              <a:t>Планирање мукопериосталног реж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Palatino Linotype"/>
              </a:rPr>
              <a:t>     </a:t>
            </a:r>
            <a:r>
              <a:rPr b="0" lang="sr-RS" sz="1800" spc="-1" strike="noStrike">
                <a:solidFill>
                  <a:srgbClr val="000000"/>
                </a:solidFill>
                <a:latin typeface="Palatino Linotype"/>
              </a:rPr>
              <a:t>-када се интервенција планира на коштаном ткиву оперативни приступ се обезбеђује одизањем мукопериосталног режњ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Palatino Linotype"/>
              </a:rPr>
              <a:t>Инцизију планирати тако да се не повреде постојећи неуроваскуларни елемен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Palatino Linotype"/>
              </a:rPr>
              <a:t>Инцизију извести оштрим скалпелом уз чврст притисак у једном потез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Palatino Linotype"/>
              </a:rPr>
              <a:t>Око постојећих зуба инцизију планирати дуж гингивалног сулку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Palatino Linotype"/>
              </a:rPr>
              <a:t>Режањ планирати да у антеро-постериорном смеру буде шири од будућег деф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Palatino Linotype"/>
              </a:rPr>
              <a:t>Режањ треба да буде широк да обезбеди адекватну видљивост и присту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Palatino Linotype"/>
              </a:rPr>
              <a:t>6) При планирању водити рачуна о прокрвљености режња ради адекватне исхране и зарастања (база режња би требало да буде шир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Palatino Linotype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Date Placeholder 3"/>
          <p:cNvSpPr/>
          <p:nvPr/>
        </p:nvSpPr>
        <p:spPr>
          <a:xfrm>
            <a:off x="0" y="6424560"/>
            <a:ext cx="3824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DD2D7-928B-4636-BA5B-290D7AA62662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66"/>
                </a:solidFill>
                <a:latin typeface="Palatino Linotype"/>
              </a:rPr>
              <a:t>Основни принципи хируршког рада у устим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У највећем броју случајева да би се приступило патолошкој лезији која треба да се уклони потребно је уклонити мањи или већи сегмент кости. Рад у кости подразумев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Стварање приступа (патолошкој лезији, импактираном зубу.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Стварање</a:t>
            </a:r>
            <a:r>
              <a:rPr b="0" lang="sr-Latn-RS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простора за апликацију инструмената (елеватора, клешта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Стварање слободног простора (према коме ће се потиснути зуб који се вад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Одстрањивање измењених делова кости (секвестар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Корекције деформит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Адекватне обраде ране након завршене хируршке интервенције (уклањање оштрих ивица кост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ate Placeholder 3"/>
          <p:cNvSpPr/>
          <p:nvPr/>
        </p:nvSpPr>
        <p:spPr>
          <a:xfrm>
            <a:off x="0" y="6424560"/>
            <a:ext cx="3921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A2CEF-0C05-4C65-A688-2241951FFCF7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Date Placeholder 3"/>
          <p:cNvSpPr/>
          <p:nvPr/>
        </p:nvSpPr>
        <p:spPr>
          <a:xfrm>
            <a:off x="0" y="6424560"/>
            <a:ext cx="37400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3D89C-0635-417D-89A5-A7E6C41675FA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71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Примена радиографисања у оралној хирургији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TextBox 7"/>
          <p:cNvSpPr/>
          <p:nvPr/>
        </p:nvSpPr>
        <p:spPr>
          <a:xfrm>
            <a:off x="285840" y="2332080"/>
            <a:ext cx="59911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адиографисање се у оралној хирургији користи са циљем </a:t>
            </a: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планирања операције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и добијања допунских података за извођење интервенције, у циљу </a:t>
            </a: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постављања дијагнозе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у склопу оралнохируршког прегледа, као и у циљу </a:t>
            </a: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контроле постигнутих терапијских резулт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8" descr="C:\Users\Zoran\Downloads\oralna hirurgija\slike\fr.jpg"/>
          <p:cNvPicPr/>
          <p:nvPr/>
        </p:nvPicPr>
        <p:blipFill>
          <a:blip r:embed="rId1"/>
          <a:stretch/>
        </p:blipFill>
        <p:spPr>
          <a:xfrm>
            <a:off x="6337440" y="2490840"/>
            <a:ext cx="2493720" cy="194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Date Placeholder 3"/>
          <p:cNvSpPr/>
          <p:nvPr/>
        </p:nvSpPr>
        <p:spPr>
          <a:xfrm>
            <a:off x="0" y="6424560"/>
            <a:ext cx="3851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AA12C-8033-4B17-8878-1E98DC48EFFC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Технике радиографисањ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" name="TextBox 9"/>
          <p:cNvSpPr/>
          <p:nvPr/>
        </p:nvSpPr>
        <p:spPr>
          <a:xfrm>
            <a:off x="411120" y="1550880"/>
            <a:ext cx="8096400" cy="46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Palatino Linotype"/>
              </a:rPr>
              <a:t>ИНТРАОРАЛНЕ ТЕХН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етроалвеоларн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(техника бисектрисе, феномен паралакс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клузални мед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Аксијални мет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Palatino Linotype"/>
              </a:rPr>
              <a:t>ЕКСТРАОРАЛНЕ ТЕХН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агиталне, фронталне и аксијалн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ојекције ртг лоба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2.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нимак параназалних шупљина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8" descr="C:\Users\Zoran\Documents\TATIC\TATIC ZORAN\New Folder\folik cista 6.jpg"/>
          <p:cNvPicPr/>
          <p:nvPr/>
        </p:nvPicPr>
        <p:blipFill>
          <a:blip r:embed="rId1"/>
          <a:srcRect l="35939" t="14079" r="18324" b="11118"/>
          <a:stretch/>
        </p:blipFill>
        <p:spPr>
          <a:xfrm>
            <a:off x="5599080" y="1731960"/>
            <a:ext cx="3544920" cy="455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Date Placeholder 3"/>
          <p:cNvSpPr/>
          <p:nvPr/>
        </p:nvSpPr>
        <p:spPr>
          <a:xfrm>
            <a:off x="0" y="6424560"/>
            <a:ext cx="3879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4584E-419A-44E0-932C-2678AD98719D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Принципи постављања дијагноз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493560" y="1900080"/>
            <a:ext cx="8145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САМО ЈЕДНА ДИЈАГНОЗА – </a:t>
            </a:r>
            <a:r>
              <a:rPr b="0" i="1" lang="sr-CS" sz="2400" spc="-1" strike="noStrike">
                <a:solidFill>
                  <a:srgbClr val="ff0000"/>
                </a:solidFill>
                <a:latin typeface="Palatino Linotype"/>
              </a:rPr>
              <a:t>ИСПРА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Palatino Linotype"/>
              </a:rPr>
              <a:t>Анамнеза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 – скуп података добијених од пацијента који су у вези са тегобама због којих се он јавља лека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Palatino Linotype"/>
              </a:rPr>
              <a:t>Клинички преглед 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- екстраорални преглед, интраорални преглед , допунски прегледи и сним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3"/>
          <p:cNvSpPr/>
          <p:nvPr/>
        </p:nvSpPr>
        <p:spPr>
          <a:xfrm>
            <a:off x="0" y="6424560"/>
            <a:ext cx="3836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08426-199C-4D56-BD88-08DD98BEBE39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Технике радиографисањ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6" name="TextBox 8"/>
          <p:cNvSpPr/>
          <p:nvPr/>
        </p:nvSpPr>
        <p:spPr>
          <a:xfrm>
            <a:off x="469800" y="1539720"/>
            <a:ext cx="821700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Palatino Linotype"/>
              </a:rPr>
              <a:t>СПЕЦИЈАЛНЕ ТЕХНИКЕ РАДИОГРАФИС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ајчешће коришћени метод специјалне технике радиографисања назива се </a:t>
            </a:r>
            <a:r>
              <a:rPr b="0" lang="sr-CS" sz="2000" spc="-1" strike="noStrike">
                <a:solidFill>
                  <a:srgbClr val="ff0000"/>
                </a:solidFill>
                <a:latin typeface="Palatino Linotype"/>
              </a:rPr>
              <a:t>ортопантомографија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– ортопа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8" descr="C:\Users\Zoran\Downloads\oralna hirurgija\slike\images6.jpg"/>
          <p:cNvPicPr/>
          <p:nvPr/>
        </p:nvPicPr>
        <p:blipFill>
          <a:blip r:embed="rId1"/>
          <a:stretch/>
        </p:blipFill>
        <p:spPr>
          <a:xfrm>
            <a:off x="1776240" y="3147840"/>
            <a:ext cx="5581800" cy="28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Date Placeholder 3"/>
          <p:cNvSpPr/>
          <p:nvPr/>
        </p:nvSpPr>
        <p:spPr>
          <a:xfrm>
            <a:off x="0" y="6424560"/>
            <a:ext cx="3836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3FD82-EC5C-4A35-A7CA-ACDDDF11966A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Технике радиографисањ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2" name="TextBox 8"/>
          <p:cNvSpPr/>
          <p:nvPr/>
        </p:nvSpPr>
        <p:spPr>
          <a:xfrm>
            <a:off x="469800" y="1539720"/>
            <a:ext cx="821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Palatino Linotype"/>
              </a:rPr>
              <a:t>СПЕЦИЈАЛНЕ ТЕХНИКЕ РАДИОГРАФИС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CB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7" descr=""/>
          <p:cNvPicPr/>
          <p:nvPr/>
        </p:nvPicPr>
        <p:blipFill>
          <a:blip r:embed="rId1"/>
          <a:stretch/>
        </p:blipFill>
        <p:spPr>
          <a:xfrm>
            <a:off x="6083280" y="2833560"/>
            <a:ext cx="2651040" cy="2476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"/>
          <p:cNvPicPr/>
          <p:nvPr/>
        </p:nvPicPr>
        <p:blipFill>
          <a:blip r:embed="rId2"/>
          <a:stretch/>
        </p:blipFill>
        <p:spPr>
          <a:xfrm>
            <a:off x="289080" y="2944800"/>
            <a:ext cx="2823840" cy="21859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9" descr=""/>
          <p:cNvPicPr/>
          <p:nvPr/>
        </p:nvPicPr>
        <p:blipFill>
          <a:blip r:embed="rId3"/>
          <a:stretch/>
        </p:blipFill>
        <p:spPr>
          <a:xfrm>
            <a:off x="3610080" y="2778120"/>
            <a:ext cx="1881000" cy="15001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"/>
          <p:cNvPicPr/>
          <p:nvPr/>
        </p:nvPicPr>
        <p:blipFill>
          <a:blip r:embed="rId4"/>
          <a:stretch/>
        </p:blipFill>
        <p:spPr>
          <a:xfrm>
            <a:off x="3718080" y="4684680"/>
            <a:ext cx="1598400" cy="155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Date Placeholder 3"/>
          <p:cNvSpPr/>
          <p:nvPr/>
        </p:nvSpPr>
        <p:spPr>
          <a:xfrm>
            <a:off x="0" y="6424560"/>
            <a:ext cx="3836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1F66D-24EF-4027-8D28-41B87EDC5ADB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Технике радиографисањ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1" name="TextBox 8"/>
          <p:cNvSpPr/>
          <p:nvPr/>
        </p:nvSpPr>
        <p:spPr>
          <a:xfrm>
            <a:off x="469800" y="1539720"/>
            <a:ext cx="821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Palatino Linotype"/>
              </a:rPr>
              <a:t>СПЕЦИЈАЛНЕ ТЕХНИКЕ РАДИОГРАФИС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CB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1" descr="CBCT-3rd-molar.jpg"/>
          <p:cNvPicPr/>
          <p:nvPr/>
        </p:nvPicPr>
        <p:blipFill>
          <a:blip r:embed="rId1"/>
          <a:stretch/>
        </p:blipFill>
        <p:spPr>
          <a:xfrm>
            <a:off x="2565360" y="2081160"/>
            <a:ext cx="4732200" cy="431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Date Placeholder 3"/>
          <p:cNvSpPr/>
          <p:nvPr/>
        </p:nvSpPr>
        <p:spPr>
          <a:xfrm>
            <a:off x="0" y="6424560"/>
            <a:ext cx="3948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15C63-C03E-495B-9FFD-EB80C816E9A5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Примена радиографисања у оралној хирургији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87" name="Picture 7" descr="C:\Users\Zoran\Downloads\oralna hirurgija\slike\imagescc.jpg"/>
          <p:cNvPicPr/>
          <p:nvPr/>
        </p:nvPicPr>
        <p:blipFill>
          <a:blip r:embed="rId1"/>
          <a:stretch/>
        </p:blipFill>
        <p:spPr>
          <a:xfrm>
            <a:off x="1071720" y="2414520"/>
            <a:ext cx="3941640" cy="2627280"/>
          </a:xfrm>
          <a:prstGeom prst="rect">
            <a:avLst/>
          </a:prstGeom>
          <a:ln w="0">
            <a:noFill/>
          </a:ln>
        </p:spPr>
      </p:pic>
      <p:cxnSp>
        <p:nvCxnSpPr>
          <p:cNvPr id="188" name="Straight Arrow Connector 8"/>
          <p:cNvCxnSpPr/>
          <p:nvPr/>
        </p:nvCxnSpPr>
        <p:spPr>
          <a:xfrm flipV="1">
            <a:off x="3321000" y="1696680"/>
            <a:ext cx="1696320" cy="10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9" name="TextBox 9"/>
          <p:cNvSpPr/>
          <p:nvPr/>
        </p:nvSpPr>
        <p:spPr>
          <a:xfrm>
            <a:off x="5126040" y="1563840"/>
            <a:ext cx="401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Palatino Linotype"/>
              </a:rPr>
              <a:t>Зубна глеђ – најјача с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Straight Arrow Connector 11"/>
          <p:cNvCxnSpPr/>
          <p:nvPr/>
        </p:nvCxnSpPr>
        <p:spPr>
          <a:xfrm flipV="1">
            <a:off x="3247560" y="2453760"/>
            <a:ext cx="2467800" cy="4946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91" name="Straight Arrow Connector 13"/>
          <p:cNvCxnSpPr/>
          <p:nvPr/>
        </p:nvCxnSpPr>
        <p:spPr>
          <a:xfrm flipV="1">
            <a:off x="2598480" y="2453400"/>
            <a:ext cx="3129480" cy="8787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92" name="TextBox 14"/>
          <p:cNvSpPr/>
          <p:nvPr/>
        </p:nvSpPr>
        <p:spPr>
          <a:xfrm>
            <a:off x="5799240" y="2286000"/>
            <a:ext cx="334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Palatino Linotype"/>
              </a:rPr>
              <a:t>Дентин и це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Straight Arrow Connector 16"/>
          <p:cNvCxnSpPr/>
          <p:nvPr/>
        </p:nvCxnSpPr>
        <p:spPr>
          <a:xfrm>
            <a:off x="2840040" y="3187800"/>
            <a:ext cx="2851920" cy="11088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94" name="Straight Arrow Connector 18"/>
          <p:cNvCxnSpPr/>
          <p:nvPr/>
        </p:nvCxnSpPr>
        <p:spPr>
          <a:xfrm>
            <a:off x="3236760" y="3814920"/>
            <a:ext cx="2407680" cy="468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95" name="TextBox 20"/>
          <p:cNvSpPr/>
          <p:nvPr/>
        </p:nvSpPr>
        <p:spPr>
          <a:xfrm>
            <a:off x="5811840" y="4127400"/>
            <a:ext cx="31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Palatino Linotype"/>
              </a:rPr>
              <a:t>Cavum dentis</a:t>
            </a:r>
            <a:r>
              <a:rPr b="0" lang="sr-CS" sz="1800" spc="-1" strike="noStrike">
                <a:solidFill>
                  <a:srgbClr val="000000"/>
                </a:solidFill>
                <a:latin typeface="Palatino Linotype"/>
              </a:rPr>
              <a:t>- свет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Date Placeholder 3"/>
          <p:cNvSpPr/>
          <p:nvPr/>
        </p:nvSpPr>
        <p:spPr>
          <a:xfrm>
            <a:off x="0" y="6424560"/>
            <a:ext cx="3836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10866-1A91-45B1-8B97-3BE47DC55212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Примена радиографисања у оралној хирургији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00" name="Picture 8" descr="C:\Users\Zoran\Downloads\oralna hirurgija\slike\fr.jpg"/>
          <p:cNvPicPr/>
          <p:nvPr/>
        </p:nvPicPr>
        <p:blipFill>
          <a:blip r:embed="rId1"/>
          <a:srcRect l="0" t="-4689" r="44740" b="0"/>
          <a:stretch/>
        </p:blipFill>
        <p:spPr>
          <a:xfrm>
            <a:off x="638280" y="1492200"/>
            <a:ext cx="2608200" cy="3851280"/>
          </a:xfrm>
          <a:prstGeom prst="rect">
            <a:avLst/>
          </a:prstGeom>
          <a:ln w="0">
            <a:noFill/>
          </a:ln>
        </p:spPr>
      </p:pic>
      <p:cxnSp>
        <p:nvCxnSpPr>
          <p:cNvPr id="201" name="Straight Arrow Connector 9"/>
          <p:cNvCxnSpPr/>
          <p:nvPr/>
        </p:nvCxnSpPr>
        <p:spPr>
          <a:xfrm flipV="1">
            <a:off x="2249640" y="2272680"/>
            <a:ext cx="1853280" cy="856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02" name="TextBox 10"/>
          <p:cNvSpPr/>
          <p:nvPr/>
        </p:nvSpPr>
        <p:spPr>
          <a:xfrm>
            <a:off x="4235400" y="2070000"/>
            <a:ext cx="490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Palatino Linotype"/>
              </a:rPr>
              <a:t>Око зуба се налази танка зона рендген светлине - периодонтални прос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Straight Arrow Connector 12"/>
          <p:cNvCxnSpPr/>
          <p:nvPr/>
        </p:nvCxnSpPr>
        <p:spPr>
          <a:xfrm flipV="1">
            <a:off x="2285640" y="3452400"/>
            <a:ext cx="1708920" cy="374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04" name="TextBox 13"/>
          <p:cNvSpPr/>
          <p:nvPr/>
        </p:nvSpPr>
        <p:spPr>
          <a:xfrm>
            <a:off x="4138560" y="3308400"/>
            <a:ext cx="48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Palatino Linotype"/>
              </a:rPr>
              <a:t>На периферији се налази танка зона рендген сенке компакте која облаже алвеоларну чашицу – </a:t>
            </a:r>
            <a:r>
              <a:rPr b="0" i="1" lang="en-US" sz="1800" spc="-1" strike="noStrike">
                <a:solidFill>
                  <a:srgbClr val="000000"/>
                </a:solidFill>
                <a:latin typeface="Palatino Linotype"/>
              </a:rPr>
              <a:t>lamina d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4"/>
          <p:cNvSpPr/>
          <p:nvPr/>
        </p:nvSpPr>
        <p:spPr>
          <a:xfrm>
            <a:off x="3465360" y="4764240"/>
            <a:ext cx="538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Palatino Linotype"/>
              </a:rPr>
              <a:t>Једнолична ширина овог простора, као и не прекинута , јасно ограничена </a:t>
            </a:r>
            <a:r>
              <a:rPr b="0" i="1" lang="en-US" sz="1800" spc="-1" strike="noStrike">
                <a:solidFill>
                  <a:srgbClr val="000000"/>
                </a:solidFill>
                <a:latin typeface="Palatino Linotype"/>
              </a:rPr>
              <a:t>lamina dura</a:t>
            </a:r>
            <a:r>
              <a:rPr b="0" i="1" lang="sr-CS" sz="1800" spc="-1" strike="noStrike">
                <a:solidFill>
                  <a:srgbClr val="000000"/>
                </a:solidFill>
                <a:latin typeface="Palatino Linotype"/>
              </a:rPr>
              <a:t> – нема патолошких промена у овом сегмен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Date Placeholder 3"/>
          <p:cNvSpPr/>
          <p:nvPr/>
        </p:nvSpPr>
        <p:spPr>
          <a:xfrm>
            <a:off x="0" y="6424560"/>
            <a:ext cx="39625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C217A-E149-41F3-8407-6D54D8915AE6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Примена радиографисања у оралној хирургији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10" name="Picture 10" descr="C:\Users\Zoran\Downloads\oralna hirurgija\slike\images77.jpg"/>
          <p:cNvPicPr/>
          <p:nvPr/>
        </p:nvPicPr>
        <p:blipFill>
          <a:blip r:embed="rId1"/>
          <a:stretch/>
        </p:blipFill>
        <p:spPr>
          <a:xfrm>
            <a:off x="372960" y="2119320"/>
            <a:ext cx="2273400" cy="30495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1" descr="C:\Users\Zoran\Downloads\oralna hirurgija\slike\p.bmp"/>
          <p:cNvPicPr/>
          <p:nvPr/>
        </p:nvPicPr>
        <p:blipFill>
          <a:blip r:embed="rId2"/>
          <a:stretch/>
        </p:blipFill>
        <p:spPr>
          <a:xfrm>
            <a:off x="2900520" y="2459160"/>
            <a:ext cx="3367080" cy="22320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2" descr="C:\Users\Zoran\Downloads\oralna hirurgija\slike\pg.jpg"/>
          <p:cNvPicPr/>
          <p:nvPr/>
        </p:nvPicPr>
        <p:blipFill>
          <a:blip r:embed="rId3"/>
          <a:stretch/>
        </p:blipFill>
        <p:spPr>
          <a:xfrm>
            <a:off x="6523200" y="2160720"/>
            <a:ext cx="2360520" cy="30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Date Placeholder 3"/>
          <p:cNvSpPr/>
          <p:nvPr/>
        </p:nvSpPr>
        <p:spPr>
          <a:xfrm>
            <a:off x="0" y="6424560"/>
            <a:ext cx="3795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E8232-CA38-4D62-A5D7-ED07AB44062A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Примена радиографисања у оралној хирургији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17" name="Picture 8" descr="C:\Users\Zoran\Pictures\imagesCAQO43CF.jpg"/>
          <p:cNvPicPr/>
          <p:nvPr/>
        </p:nvPicPr>
        <p:blipFill>
          <a:blip r:embed="rId1"/>
          <a:stretch/>
        </p:blipFill>
        <p:spPr>
          <a:xfrm>
            <a:off x="608040" y="2230560"/>
            <a:ext cx="2038320" cy="22478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C:\Users\Zoran\Pictures\imagesCAT2I49G.jpg"/>
          <p:cNvPicPr/>
          <p:nvPr/>
        </p:nvPicPr>
        <p:blipFill>
          <a:blip r:embed="rId2"/>
          <a:stretch/>
        </p:blipFill>
        <p:spPr>
          <a:xfrm>
            <a:off x="6464160" y="2133720"/>
            <a:ext cx="1668600" cy="25905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" descr="C:\Users\Zoran\Pictures\X-20101124110626672.jpg"/>
          <p:cNvPicPr/>
          <p:nvPr/>
        </p:nvPicPr>
        <p:blipFill>
          <a:blip r:embed="rId3"/>
          <a:stretch/>
        </p:blipFill>
        <p:spPr>
          <a:xfrm>
            <a:off x="3297240" y="1824120"/>
            <a:ext cx="2535120" cy="31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Принципи постављања дијагноз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Date Placeholder 3"/>
          <p:cNvSpPr/>
          <p:nvPr/>
        </p:nvSpPr>
        <p:spPr>
          <a:xfrm>
            <a:off x="0" y="6424560"/>
            <a:ext cx="40449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Latn-CS" sz="1000" spc="-1" strike="noStrike">
                <a:solidFill>
                  <a:srgbClr val="000000"/>
                </a:solidFill>
                <a:latin typeface="Palatino Linotype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0CDE2-E413-47F8-81F2-02D3182A678B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444600" y="1146240"/>
            <a:ext cx="8157960" cy="43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Palatino Linotype"/>
              </a:rPr>
              <a:t>АНАМНЕ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Генерал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Главне тегобе ( зашто се пацијент јавио на преглед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Садашња болест ( детаљно се обрађују подаци из главне тегоб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171fc14b49a79ea979710de5b3402b30_XL.jpg"/>
          <p:cNvPicPr/>
          <p:nvPr/>
        </p:nvPicPr>
        <p:blipFill>
          <a:blip r:embed="rId1"/>
          <a:stretch/>
        </p:blipFill>
        <p:spPr>
          <a:xfrm>
            <a:off x="2646360" y="4160880"/>
            <a:ext cx="4033800" cy="18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Принципи постављања дијагноз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43496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Palatino Linotype"/>
              </a:rPr>
              <a:t>БОЛ</a:t>
            </a:r>
            <a:r>
              <a:rPr b="1" lang="sr-CS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(најчешћи разлог посете стоматолог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ад се бол први пут јави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а ли је континуиран или са прекид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арактер бола (оштар, туп, севајући..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а ли се јавља спонтано или на надража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а ли траје само док и надражај или и после надража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невна динамика бола (да ли се појачава ноћ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Локализација бо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ate Placeholder 3"/>
          <p:cNvSpPr/>
          <p:nvPr/>
        </p:nvSpPr>
        <p:spPr>
          <a:xfrm>
            <a:off x="0" y="6424560"/>
            <a:ext cx="39895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CFEF4-0674-4F79-987B-B4C9C416C48F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dolor-de-muelas-insoportable.jpg"/>
          <p:cNvPicPr/>
          <p:nvPr/>
        </p:nvPicPr>
        <p:blipFill>
          <a:blip r:embed="rId1"/>
          <a:stretch/>
        </p:blipFill>
        <p:spPr>
          <a:xfrm>
            <a:off x="3490920" y="4923000"/>
            <a:ext cx="2065320" cy="1403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mal-di-denti-e1482837979697.jpg"/>
          <p:cNvPicPr/>
          <p:nvPr/>
        </p:nvPicPr>
        <p:blipFill>
          <a:blip r:embed="rId2"/>
          <a:stretch/>
        </p:blipFill>
        <p:spPr>
          <a:xfrm>
            <a:off x="5556240" y="4917960"/>
            <a:ext cx="2084400" cy="13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Принципи постављања дијагноз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Date Placeholder 3"/>
          <p:cNvSpPr/>
          <p:nvPr/>
        </p:nvSpPr>
        <p:spPr>
          <a:xfrm>
            <a:off x="0" y="6424560"/>
            <a:ext cx="3824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Latn-CS" sz="1000" spc="-1" strike="noStrike">
                <a:solidFill>
                  <a:srgbClr val="000000"/>
                </a:solidFill>
                <a:latin typeface="Palatino Linotype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F8088-1A6E-4E7B-BDC2-AEAC02DF859D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"/>
          <p:cNvSpPr/>
          <p:nvPr/>
        </p:nvSpPr>
        <p:spPr>
          <a:xfrm>
            <a:off x="482760" y="1397160"/>
            <a:ext cx="8216640" cy="32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Palatino Linotype"/>
              </a:rPr>
              <a:t>ОТО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ад се оток појави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а ли је мењао своје дименз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аквих је карактеристика (конзистенције, боје, температуре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пшти симптоми (повишена температура, језа, малаксалост, губитак апетит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Локални симптоми ( ограничено отварање уста, отежано гутање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C:\Users\Zoran\Downloads\oralna hirurgija\slike\download.jpg"/>
          <p:cNvPicPr/>
          <p:nvPr/>
        </p:nvPicPr>
        <p:blipFill>
          <a:blip r:embed="rId1"/>
          <a:srcRect l="35121" t="1936" r="3272" b="3171"/>
          <a:stretch/>
        </p:blipFill>
        <p:spPr>
          <a:xfrm>
            <a:off x="2133720" y="4199040"/>
            <a:ext cx="1538280" cy="19746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advanced-abscess-300x272.jpg"/>
          <p:cNvPicPr/>
          <p:nvPr/>
        </p:nvPicPr>
        <p:blipFill>
          <a:blip r:embed="rId2"/>
          <a:stretch/>
        </p:blipFill>
        <p:spPr>
          <a:xfrm>
            <a:off x="4627440" y="4184640"/>
            <a:ext cx="2244960" cy="20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Принципи постављања дијагноз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Date Placeholder 3"/>
          <p:cNvSpPr/>
          <p:nvPr/>
        </p:nvSpPr>
        <p:spPr>
          <a:xfrm>
            <a:off x="0" y="6424560"/>
            <a:ext cx="3824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21AEE-DC2B-4D36-A1EA-6D68B1A946B4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493560" y="1558800"/>
            <a:ext cx="7777440" cy="46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Palatino Linotype"/>
              </a:rPr>
              <a:t>КЛИНИЧКИ ПРЕГЛЕ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Инспекција</a:t>
            </a:r>
            <a:r>
              <a:rPr b="0" lang="sr-Latn-R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(екстраорална и интраорална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Палпација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(отоци, пљ. жлезде, л.жлезде, ТМЗ и Валеове т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Перкусија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(вертикална и хоризонтална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Сондирање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(зуби, пародонтални џепови, екс. ране, фистуле, ороантралне комуникације и изводни канали пљ. жлезда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Испитивање сензибилит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EXTRACCION.jpg"/>
          <p:cNvPicPr/>
          <p:nvPr/>
        </p:nvPicPr>
        <p:blipFill>
          <a:blip r:embed="rId1"/>
          <a:stretch/>
        </p:blipFill>
        <p:spPr>
          <a:xfrm>
            <a:off x="5708520" y="4815000"/>
            <a:ext cx="2336760" cy="155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Принципи постављања дијагноз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Date Placeholder 3"/>
          <p:cNvSpPr/>
          <p:nvPr/>
        </p:nvSpPr>
        <p:spPr>
          <a:xfrm>
            <a:off x="0" y="6424560"/>
            <a:ext cx="3921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Latn-CS" sz="1000" spc="-1" strike="noStrike">
                <a:solidFill>
                  <a:srgbClr val="000000"/>
                </a:solidFill>
                <a:latin typeface="Palatino Linotype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7CF78-0221-450A-A375-A696FB22EF5B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444600" y="1720800"/>
            <a:ext cx="825480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Palatino Linotype"/>
              </a:rPr>
              <a:t>Диференцијална дијагноза обољења</a:t>
            </a:r>
            <a:r>
              <a:rPr b="1" lang="en-US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Palatino Linotype"/>
              </a:rPr>
              <a:t>пулпе и пародонцију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Caries profu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Pulpitis acuta serosa partia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Pulpitis acuta serosa tota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Pulpitis acuta purulenta partia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Pulpitis acuta purulenta tota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Necrosis et gangraena pul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Pulpitis chron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C:\Users\Zoran\Downloads\oralna hirurgija\slike\images 55.jpg"/>
          <p:cNvPicPr/>
          <p:nvPr/>
        </p:nvPicPr>
        <p:blipFill>
          <a:blip r:embed="rId1"/>
          <a:stretch/>
        </p:blipFill>
        <p:spPr>
          <a:xfrm>
            <a:off x="4272120" y="3143160"/>
            <a:ext cx="459396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Принципи постављања дијагноз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Date Placeholder 3"/>
          <p:cNvSpPr/>
          <p:nvPr/>
        </p:nvSpPr>
        <p:spPr>
          <a:xfrm>
            <a:off x="0" y="6424560"/>
            <a:ext cx="3906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Latn-CS" sz="1000" spc="-1" strike="noStrike">
                <a:solidFill>
                  <a:srgbClr val="000000"/>
                </a:solidFill>
                <a:latin typeface="Palatino Linotype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1EE4B-F58D-42FE-8E9E-9EABFC7CC768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6"/>
          <p:cNvSpPr/>
          <p:nvPr/>
        </p:nvSpPr>
        <p:spPr>
          <a:xfrm>
            <a:off x="469800" y="1671480"/>
            <a:ext cx="82296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Parodontitis acuta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ериодомцијум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еностал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убпериостал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убмукоз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Parodontitis chronica – granul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Abscessus dentoalveolaris acu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Abscessus parodonta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Pericoronit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C:\Users\Zoran\Downloads\oralna hirurgija\slike\imageslll.jpg"/>
          <p:cNvPicPr/>
          <p:nvPr/>
        </p:nvPicPr>
        <p:blipFill>
          <a:blip r:embed="rId1"/>
          <a:stretch/>
        </p:blipFill>
        <p:spPr>
          <a:xfrm>
            <a:off x="5411880" y="1473120"/>
            <a:ext cx="2701800" cy="2254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C:\Users\Zoran\Downloads\oralna hirurgija\slike\images rt.jpg"/>
          <p:cNvPicPr/>
          <p:nvPr/>
        </p:nvPicPr>
        <p:blipFill>
          <a:blip r:embed="rId2"/>
          <a:srcRect l="0" t="2946" r="21747" b="-130"/>
          <a:stretch/>
        </p:blipFill>
        <p:spPr>
          <a:xfrm>
            <a:off x="5818320" y="3873600"/>
            <a:ext cx="1773000" cy="20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66"/>
                </a:solidFill>
                <a:latin typeface="Palatino Linotype"/>
              </a:rPr>
              <a:t>Принципи асептичног рада 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Хируршке интервенције у усној дупљи се не могу изводити у строго асептичним условима, међутим могућност контаминације операцијске ране нестерилним инструментима или нестерилним материјалом се обавезно мора спречи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Под асептичним поступком се подразумева спречавање контаминације ране у току операције. Ово се постиж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Применом стерилних инструмената и применом стерилног материј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Одговарајућом припремом лекара за хируршку интервенциј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Припремом операцијског пољ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0" y="6424560"/>
            <a:ext cx="3795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ED502-086B-4B42-945A-14C5EAB89867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20:52:51Z</dcterms:created>
  <dc:creator>Kaja</dc:creator>
  <dc:description/>
  <dc:language>en-US</dc:language>
  <cp:lastModifiedBy>Korisnik</cp:lastModifiedBy>
  <dcterms:modified xsi:type="dcterms:W3CDTF">2019-09-09T15:59:14Z</dcterms:modified>
  <cp:revision>985</cp:revision>
  <dc:subject/>
  <dc:title>NAZIV PREDAVANJA</dc:title>
</cp:coreProperties>
</file>